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66949-AF8C-4D11-A862-6C7520282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FC5-D4FD-4727-9B05-93438882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675-9A14-4656-9167-3D157054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712-9BF5-4FB3-86C8-36A7E96A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5694-1BF5-43E2-8DFD-98492062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A76-1FB0-4228-B898-16531BFA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F51-99E1-41C2-A42D-B802C30C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6DA-0A52-43AB-995D-76AAD995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3D6-18C8-4C3F-9F3B-EACFA4B9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8E4-E87D-4868-B2E3-5B1D89AB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9C9-BBCC-4B2D-8EA3-B812148C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D39-A084-435F-86ED-F57F0FD2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0BF-8812-40C8-A58F-4BB00FB9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D4786-4321-482F-B2B1-61B9323C3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2079720" cy="16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60175&amp;ct=1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e Page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Diego, January 1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, or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 simple and consistent interchange format for commonly needed gen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biology.plosjournals.org/perlserv/?request=get-document&amp;doi=10.1371/journal.pbio.0060175&amp;ct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, making automated mining of gene info across species easier, if one wanted to, say, submit them to WikiP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0" y="73080"/>
            <a:ext cx="9071280" cy="74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ata_provider&gt;FlyBase&lt;/data_provi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cession&gt;FBgn0000490&lt;/access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primary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ynonym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INTERPRO" key="69" id="IPR001111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orthologs" key="93" id="HOMSA:ENP44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common"&gt;fruit fly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cientific"&gt;Drosophila melanogaster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NCBI Taxonomy" key="107" id="7227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 map="genome" chromosome="2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ition="2428454..2459609" units="bp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ntolog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GO" key="108" id="GO:0007455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term" value="antennal disc morph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evidence_code" value="inferre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dbRefer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pubmed" key="3368" id="17034783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lass Bio::GMOD::GenericGen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GMOD::GenericGenePage::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some abstract clas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_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e new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page = Bio::GMOD::GenericGenePage-&gt;new($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xml = $page-&gt;render_xm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yeast set at gmod.or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mod.org/cgi-bin/gbrowse/chado_yeas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 B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n</dc:creator>
  <dc:description/>
  <dc:language>en-US</dc:language>
  <cp:lastModifiedBy/>
  <cp:revision>0</cp:revision>
  <dc:subject/>
  <dc:title/>
</cp:coreProperties>
</file>